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608-69C4-4EEE-96B8-DB7DD2C4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4B3-3051-4435-8BDB-29995216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4A8-0D05-4B43-9E62-2D07BEBC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E7C-F1ED-4E91-AFD1-7C528EB7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1F10-946B-4D41-B382-6E51FF43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4E6A-CFAF-4E5E-982F-E19B808B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D504-7C3D-4A94-AB3A-DC521B8C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3CE6-D2EE-4ACC-A237-9DCC97C7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2FEB-0EE7-404B-9463-C06E866C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DA2E-4910-408E-B4EB-B195FE12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E45B-7EB1-4E14-A1C5-030553BB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AEC-7B9B-4C9E-B0BB-C481DEA0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71E0-14CB-4865-BA7A-6BFA774C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FA0F-27BB-4172-8B94-E9C01C40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4B38-BA24-4DB8-8288-11F2976D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EB4F-6623-4B81-B557-0AA36148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87B4-1D36-43CC-9A95-DF2175C3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B4B-3327-44CF-B464-CFDA32BE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5F8-E73E-4F71-8750-9EED5B27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046-E8AB-4282-BF25-54A00721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3FA-E64F-4D24-9EDB-477F0709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2E9-0E90-4910-89AE-EA4FD652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84C-CE16-4DED-9372-9F569A14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445-0FB5-432D-8700-25118CAB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SzPct val="1124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B8AA-97BF-4237-9BD1-3545ACE8DAB4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SzPct val="1124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DCD1-17F5-47F9-BE82-1CCA4449049F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8221b"/>
                </a:solidFill>
                <a:latin typeface="Waltograph"/>
              </a:rPr>
              <a:t>Dear Canada Turned Away</a:t>
            </a:r>
            <a:r>
              <a:rPr b="0" lang="en-US" sz="4400" spc="-1" strike="noStrike">
                <a:solidFill>
                  <a:srgbClr val="48221b"/>
                </a:solidFill>
                <a:latin typeface="Waltograph"/>
              </a:rPr>
              <a:t> </a:t>
            </a: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 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14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altograph"/>
              </a:rPr>
              <a:t>Avery Brown Social Studies book project</a:t>
            </a:r>
            <a:endParaRPr b="0" lang="en-US" sz="40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8221b"/>
                </a:solidFill>
                <a:latin typeface="Waltograph"/>
              </a:rPr>
              <a:t>Winnipeg, Manitoba, 1941</a:t>
            </a:r>
            <a:endParaRPr b="0" lang="en-US" sz="60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25"/>
              </a:spcBef>
              <a:buSzPct val="1388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Waltograph"/>
              </a:rPr>
              <a:t>During world war II</a:t>
            </a:r>
            <a:endParaRPr b="0" lang="en-US" sz="4500" spc="-1" strike="noStrike">
              <a:solidFill>
                <a:srgbClr val="000000"/>
              </a:solidFill>
              <a:latin typeface="Geneva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SzPct val="12855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Waltograph"/>
              </a:rPr>
              <a:t>Canada- looking better than other countries </a:t>
            </a:r>
            <a:endParaRPr b="0" lang="en-US" sz="4500" spc="-1" strike="noStrike">
              <a:solidFill>
                <a:srgbClr val="000000"/>
              </a:solidFill>
              <a:latin typeface="Geneva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SzPct val="12855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Waltograph"/>
              </a:rPr>
              <a:t>Jews are being captured/taken away to camps</a:t>
            </a:r>
            <a:endParaRPr b="0" lang="en-US" sz="45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8221b"/>
                </a:solidFill>
                <a:latin typeface="Waltograph"/>
              </a:rPr>
              <a:t> </a:t>
            </a:r>
            <a:r>
              <a:rPr b="0" lang="en-US" sz="6000" spc="-1" strike="noStrike">
                <a:solidFill>
                  <a:srgbClr val="48221b"/>
                </a:solidFill>
                <a:latin typeface="Waltograph"/>
              </a:rPr>
              <a:t>Devorah Bernstein</a:t>
            </a:r>
            <a:endParaRPr b="0" lang="en-US" sz="60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950"/>
              </a:spcBef>
              <a:buSzPct val="1388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Waltograph"/>
              </a:rPr>
              <a:t>11 year old in a Jewish family </a:t>
            </a:r>
            <a:endParaRPr b="0" lang="en-US" sz="3800" spc="-1" strike="noStrike">
              <a:solidFill>
                <a:srgbClr val="000000"/>
              </a:solidFill>
              <a:latin typeface="Geneva"/>
            </a:endParaRPr>
          </a:p>
          <a:p>
            <a:pPr marL="263880" indent="-263880">
              <a:lnSpc>
                <a:spcPct val="100000"/>
              </a:lnSpc>
              <a:spcBef>
                <a:spcPts val="950"/>
              </a:spcBef>
              <a:buSzPct val="1388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Waltograph"/>
              </a:rPr>
              <a:t>Brothers away in Hong Kong fighting in war</a:t>
            </a:r>
            <a:endParaRPr b="0" lang="en-US" sz="3800" spc="-1" strike="noStrike">
              <a:solidFill>
                <a:srgbClr val="000000"/>
              </a:solidFill>
              <a:latin typeface="Geneva"/>
            </a:endParaRPr>
          </a:p>
          <a:p>
            <a:pPr marL="263880" indent="-263880">
              <a:lnSpc>
                <a:spcPct val="100000"/>
              </a:lnSpc>
              <a:spcBef>
                <a:spcPts val="950"/>
              </a:spcBef>
              <a:buSzPct val="1388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Waltograph"/>
              </a:rPr>
              <a:t>Writes letters to her brothers and cousin</a:t>
            </a:r>
            <a:endParaRPr b="0" lang="en-US" sz="3800" spc="-1" strike="noStrike">
              <a:solidFill>
                <a:srgbClr val="000000"/>
              </a:solidFill>
              <a:latin typeface="Geneva"/>
            </a:endParaRPr>
          </a:p>
          <a:p>
            <a:pPr lvl="1" marL="572040" indent="-219960">
              <a:lnSpc>
                <a:spcPct val="100000"/>
              </a:lnSpc>
              <a:spcBef>
                <a:spcPts val="950"/>
              </a:spcBef>
              <a:buSzPct val="12858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Waltograph"/>
              </a:rPr>
              <a:t>Cousin is on the run/hiding from German’s in Europe</a:t>
            </a:r>
            <a:endParaRPr b="0" lang="en-US" sz="3800" spc="-1" strike="noStrike">
              <a:solidFill>
                <a:srgbClr val="000000"/>
              </a:solidFill>
              <a:latin typeface="Geneva"/>
            </a:endParaRPr>
          </a:p>
          <a:p>
            <a:pPr lvl="1" marL="572040" indent="-219960">
              <a:lnSpc>
                <a:spcPct val="100000"/>
              </a:lnSpc>
              <a:spcBef>
                <a:spcPts val="799"/>
              </a:spcBef>
              <a:buSzPct val="12858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Waltograph"/>
              </a:rPr>
              <a:t>Cousin’s letters keep getting worse news</a:t>
            </a:r>
            <a:r>
              <a:rPr b="0" lang="en-US" sz="3200" spc="-1" strike="noStrike">
                <a:solidFill>
                  <a:srgbClr val="000000"/>
                </a:solidFill>
                <a:latin typeface="Waltograp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8221b"/>
                </a:solidFill>
                <a:latin typeface="Waltograph"/>
              </a:rPr>
              <a:t>News of the Canadian Soldiers</a:t>
            </a:r>
            <a:endParaRPr b="0" lang="en-US" sz="5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SzPct val="1388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altograph"/>
              </a:rPr>
              <a:t>Newspapers- informing soldiers families of there whereabouts/happenings in war 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SzPct val="1285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altograph"/>
              </a:rPr>
              <a:t>Devorah’s brother in Hong Kong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2" marL="902880" indent="-180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altograph"/>
              </a:rPr>
              <a:t>Japenese taken over 700 prisoners- most Canadian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2" marL="902880" indent="-180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altograph"/>
              </a:rPr>
              <a:t>Devorah’s brothers picture in Newspaper- as one to serve 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3" marL="1263960" indent="-1803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altograph"/>
              </a:rPr>
              <a:t>They know he’s still alive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2" marL="902880" indent="-180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altograph"/>
              </a:rPr>
              <a:t>In paper- 296 dead/1,985 taken prisoner in Hong Kong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SzPct val="1388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altograph"/>
              </a:rPr>
              <a:t>Telegram comes for Devorah’s family- her brother is missing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48221b"/>
                </a:solidFill>
                <a:latin typeface="Waltograph"/>
              </a:rPr>
              <a:t>Letters from Sarah</a:t>
            </a:r>
            <a:endParaRPr b="0" lang="en-US" sz="7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75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Waltograph"/>
              </a:rPr>
              <a:t>Sarah (Devorah’s cousin)- also Jew</a:t>
            </a:r>
            <a:endParaRPr b="0" lang="en-US" sz="3900" spc="-1" strike="noStrike">
              <a:solidFill>
                <a:srgbClr val="000000"/>
              </a:solidFill>
              <a:latin typeface="Geneva"/>
            </a:endParaRPr>
          </a:p>
          <a:p>
            <a:pPr lvl="1" marL="586800" indent="-225720">
              <a:lnSpc>
                <a:spcPct val="90000"/>
              </a:lnSpc>
              <a:spcBef>
                <a:spcPts val="876"/>
              </a:spcBef>
              <a:buSzPct val="1285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Waltograph"/>
              </a:rPr>
              <a:t>Sarah tells Devorah what she has heard happen to the Jews taken away</a:t>
            </a:r>
            <a:endParaRPr b="0" lang="en-US" sz="3500" spc="-1" strike="noStrike">
              <a:solidFill>
                <a:srgbClr val="000000"/>
              </a:solidFill>
              <a:latin typeface="Geneva"/>
            </a:endParaRPr>
          </a:p>
          <a:p>
            <a:pPr lvl="1" marL="586800" indent="-225720">
              <a:lnSpc>
                <a:spcPct val="90000"/>
              </a:lnSpc>
              <a:spcBef>
                <a:spcPts val="876"/>
              </a:spcBef>
              <a:buSzPct val="1285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Waltograph"/>
              </a:rPr>
              <a:t>Later- Sarah’s dad taken away by German in the middle of the night </a:t>
            </a:r>
            <a:endParaRPr b="0" lang="en-US" sz="3500" spc="-1" strike="noStrike">
              <a:solidFill>
                <a:srgbClr val="000000"/>
              </a:solidFill>
              <a:latin typeface="Geneva"/>
            </a:endParaRPr>
          </a:p>
          <a:p>
            <a:pPr lvl="2" marL="902880" indent="-180360">
              <a:lnSpc>
                <a:spcPct val="90000"/>
              </a:lnSpc>
              <a:spcBef>
                <a:spcPts val="751"/>
              </a:spcBef>
              <a:buSzPct val="11315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altograph"/>
              </a:rPr>
              <a:t>She is scared that her dad had been killed after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  <a:p>
            <a:pPr lvl="1" marL="586800" indent="-225720">
              <a:lnSpc>
                <a:spcPct val="90000"/>
              </a:lnSpc>
              <a:spcBef>
                <a:spcPts val="876"/>
              </a:spcBef>
              <a:buSzPct val="1285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Waltograph"/>
              </a:rPr>
              <a:t>Sarah wants Devorah to help them out/get them to Canada where they will be safe</a:t>
            </a:r>
            <a:endParaRPr b="0" lang="en-US" sz="35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48221b"/>
                </a:solidFill>
                <a:latin typeface="Waltograph"/>
              </a:rPr>
              <a:t>Scene in Manitoba</a:t>
            </a:r>
            <a:endParaRPr b="0" lang="en-US" sz="82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049"/>
              </a:spcBef>
              <a:buSzPct val="1388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Waltograph"/>
              </a:rPr>
              <a:t>Nazis came to children’s school to take away Jewish kids</a:t>
            </a:r>
            <a:endParaRPr b="0" lang="en-US" sz="4200" spc="-1" strike="noStrike">
              <a:solidFill>
                <a:srgbClr val="000000"/>
              </a:solidFill>
              <a:latin typeface="Geneva"/>
            </a:endParaRPr>
          </a:p>
          <a:p>
            <a:pPr marL="277560" indent="-277560">
              <a:lnSpc>
                <a:spcPct val="90000"/>
              </a:lnSpc>
              <a:spcBef>
                <a:spcPts val="1049"/>
              </a:spcBef>
              <a:buSzPct val="1388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Waltograph"/>
              </a:rPr>
              <a:t>Streets are unsafe- needed to stay in one place at a time</a:t>
            </a:r>
            <a:endParaRPr b="0" lang="en-US" sz="4200" spc="-1" strike="noStrike">
              <a:solidFill>
                <a:srgbClr val="000000"/>
              </a:solidFill>
              <a:latin typeface="Geneva"/>
            </a:endParaRPr>
          </a:p>
          <a:p>
            <a:pPr marL="277560" indent="-277560">
              <a:lnSpc>
                <a:spcPct val="90000"/>
              </a:lnSpc>
              <a:spcBef>
                <a:spcPts val="1049"/>
              </a:spcBef>
              <a:buSzPct val="1388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Waltograph"/>
              </a:rPr>
              <a:t>Families worried about relatives/other family members out in war </a:t>
            </a:r>
            <a:endParaRPr b="0" lang="en-US" sz="4200" spc="-1" strike="noStrike">
              <a:solidFill>
                <a:srgbClr val="000000"/>
              </a:solidFill>
              <a:latin typeface="Geneva"/>
            </a:endParaRPr>
          </a:p>
          <a:p>
            <a:pPr lvl="1" marL="601560" indent="-231480">
              <a:lnSpc>
                <a:spcPct val="90000"/>
              </a:lnSpc>
              <a:spcBef>
                <a:spcPts val="950"/>
              </a:spcBef>
              <a:buSzPct val="12858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Waltograph"/>
              </a:rPr>
              <a:t>Some already have died</a:t>
            </a:r>
            <a:endParaRPr b="0" lang="en-US" sz="3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20:31:50Z</dcterms:created>
  <dc:creator>Jay Brown</dc:creator>
  <dc:description/>
  <dc:language>en-US</dc:language>
  <cp:lastModifiedBy>BrownAv</cp:lastModifiedBy>
  <dcterms:modified xsi:type="dcterms:W3CDTF">2010-05-25T18:03:34Z</dcterms:modified>
  <cp:revision>4</cp:revision>
  <dc:subject/>
  <dc:title>Dear Canada Turned Away  </dc:title>
</cp:coreProperties>
</file>